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11132"/>
        <c:axId val="26546178"/>
      </c:barChart>
      <c:catAx>
        <c:axId val="85411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46178"/>
        <c:crosses val="autoZero"/>
        <c:auto val="1"/>
        <c:lblAlgn val="ctr"/>
        <c:lblOffset val="100"/>
        <c:noMultiLvlLbl val="0"/>
      </c:catAx>
      <c:valAx>
        <c:axId val="26546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11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16A-A5E2-4C79-9E99-80F3DDA2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1E8-8C5A-4290-8ED0-180B93A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5C7-E348-4261-B376-690CB699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09D-31AF-4861-BAD0-02A5CEF4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0B5-E263-4135-9C80-1A18B36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AAA-AEE3-4FE6-B05A-F4161D7D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A2A-804C-4F94-8774-83602847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188-812B-4B52-9EBD-F0CB91F3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E57-83F6-4A6C-B726-C05AEE24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AD5-E4EC-4462-8C11-9D51C61B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797-1C61-4B00-B548-C0912ADA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E2B-C99C-4A5F-918B-6A4A17CD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1AEE6-0159-4DA5-A708-EB9F97FFEC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