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43750"/>
        <c:axId val="53763238"/>
      </c:barChart>
      <c:catAx>
        <c:axId val="13643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63238"/>
        <c:crosses val="autoZero"/>
        <c:auto val="1"/>
        <c:lblAlgn val="ctr"/>
        <c:lblOffset val="100"/>
        <c:noMultiLvlLbl val="0"/>
      </c:catAx>
      <c:valAx>
        <c:axId val="53763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43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32B-F580-4718-84C3-808CC088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3EA-034E-4BE8-A8C8-14666F2E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1A4-FCE2-4AD9-9E0D-754C7412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35A-FF87-4D14-8DB1-4125107E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E55-5F1A-4FA9-B41E-6AC37028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B25-028E-4430-A08D-AE6AE3D4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8BD-C1D8-4DC5-B3D2-FB72F37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E0C-AA3B-4A59-A553-9460CB89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E3E-3EBE-4F6A-88BD-86D24642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9DA-70CD-4F29-8F54-2BB28280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871-8C53-4CAE-9146-E5C18D1E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378-4D2C-443F-A627-36072D5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4178B-E50A-419B-934D-09A9A48CDA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