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15119"/>
        <c:axId val="66114157"/>
      </c:barChart>
      <c:catAx>
        <c:axId val="731151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14157"/>
        <c:crosses val="autoZero"/>
        <c:auto val="1"/>
        <c:lblAlgn val="ctr"/>
        <c:lblOffset val="100"/>
        <c:noMultiLvlLbl val="0"/>
      </c:catAx>
      <c:valAx>
        <c:axId val="661141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151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5148-3153-4497-8073-CC32E2E8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4926-1C60-4A7B-BAE4-B5FDDFD1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EFF0-C681-4255-88DC-B7A2DD6D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41B5-440F-4540-AD54-174F532E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0B73-A2DC-4C00-A010-E4B2191B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CDA-FEC7-4A89-82CE-19C7D557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CEE5-1144-4AA2-BB7E-FED1FF18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2D48-8991-40C3-8E8F-A2FDCB3F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8B2A-0EFF-4952-958D-DFCA8511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B482-2D6E-486D-8629-AFD4605C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DD2C-3DC0-48AB-B139-1AF0201A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3E22-10C5-4D6A-B091-D7DA81D2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5BABF-F583-41EC-829E-26B6EA5DF2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