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49960"/>
        <c:axId val="79887890"/>
      </c:barChart>
      <c:catAx>
        <c:axId val="12049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87890"/>
        <c:crosses val="autoZero"/>
        <c:auto val="1"/>
        <c:lblAlgn val="ctr"/>
        <c:lblOffset val="100"/>
        <c:noMultiLvlLbl val="0"/>
      </c:catAx>
      <c:valAx>
        <c:axId val="79887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49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308-6EAE-4172-AC63-AB3B76E0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F3C-666F-476A-843F-6E78EE76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003-1198-4964-B4A9-6EE52651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892-5EED-4DC3-BF5F-2D28E665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829-64FC-4ADE-82D2-3A5D1BE3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43F-82A3-4ADA-87DD-68AD562E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185-2943-4EED-B8B3-1B455866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5FB-F025-4C1C-AD7D-605BD8CA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AF5-A591-47FF-ACD5-3F28822E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5B7-BCAF-4D31-B091-89BD6D10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EC9-CB61-4A7B-86E0-15264AE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0D9-2932-4A1D-85C0-4E6A8D69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C6204-6750-4394-A2CF-348ADF8A7D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