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30571"/>
        <c:axId val="94182404"/>
      </c:barChart>
      <c:catAx>
        <c:axId val="85930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82404"/>
        <c:crosses val="autoZero"/>
        <c:auto val="1"/>
        <c:lblAlgn val="ctr"/>
        <c:lblOffset val="100"/>
        <c:noMultiLvlLbl val="0"/>
      </c:catAx>
      <c:valAx>
        <c:axId val="94182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30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444-D52D-4441-807D-3BF38D6A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F91-D58A-4CF5-8CC3-7CC1CD62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BA7-0BE7-4099-85A7-8D4997F6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51E-2D26-479D-8F72-FDD8F946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2CA-F2E7-4B2D-BCB8-D23FA9CF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6D6-9D90-4287-8019-F73166DE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93F-BA82-40DF-8C92-F6A664DA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FF6-F133-452D-A634-DB04DB7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36A-EE85-400A-95E5-8CF8548D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38C-1BB1-43E1-BBE6-1FF559E5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1D6-2587-4B08-B5A7-4619FEC9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C67-0D62-4A50-BF25-4D9771FE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7F6BB-EBC4-44C9-BDBB-1D65F0DBE1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