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41285"/>
        <c:axId val="53505832"/>
      </c:barChart>
      <c:catAx>
        <c:axId val="47341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05832"/>
        <c:crosses val="autoZero"/>
        <c:auto val="1"/>
        <c:lblAlgn val="ctr"/>
        <c:lblOffset val="100"/>
        <c:noMultiLvlLbl val="0"/>
      </c:catAx>
      <c:valAx>
        <c:axId val="535058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41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976-DB88-4BA0-8CD6-E39498E2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F08-05B8-45AB-A41F-D82A47A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280-68BF-4CDC-A2EF-DE12DE41E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899-4085-4E24-8C39-12776B2B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B8D3-C8C6-4B29-BB1F-9CA3D18E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62A-51ED-48A0-95EB-0022683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599-39AC-4481-88AD-358307C7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550-3F52-4535-8C49-46FCB78F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1D5-A37D-4692-87BF-7EB1C66D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0DE-CE3E-48BC-9B5E-5F5D2EA5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170-5654-41F4-BFDD-30DA9382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269-056C-4028-97B6-41E5B122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C9A54-9FD5-4F26-AC03-09836CE519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