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63436"/>
        <c:axId val="31301803"/>
      </c:barChart>
      <c:catAx>
        <c:axId val="18863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01803"/>
        <c:crosses val="autoZero"/>
        <c:auto val="1"/>
        <c:lblAlgn val="ctr"/>
        <c:lblOffset val="100"/>
        <c:noMultiLvlLbl val="0"/>
      </c:catAx>
      <c:valAx>
        <c:axId val="31301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63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C0F-FE50-4DF6-9A20-C02EE21D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C28-3673-4C3C-9748-78F6EA4B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B82-1BE1-475B-81D6-EDC6D9A6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6C5-0642-43EF-922A-207DE93C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C65-1208-41F3-99EF-8584D63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46C-5119-4E54-83EA-1A9F081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1E5-7879-43B0-9EB9-3E9B62D9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8E0-82C9-4BF8-90AD-28BCEE2C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906-BDA2-4B9E-A3CA-0364E0A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F40-854A-43D6-BED9-B2E154D2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074-2213-4AAB-A6A4-6248614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89E-626E-4283-8CDB-8F79A05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A4B5-5C66-4A45-87F0-6EF6E4326A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