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3893"/>
        <c:axId val="44778372"/>
      </c:barChart>
      <c:catAx>
        <c:axId val="6933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78372"/>
        <c:crosses val="autoZero"/>
        <c:auto val="1"/>
        <c:lblAlgn val="ctr"/>
        <c:lblOffset val="100"/>
        <c:noMultiLvlLbl val="0"/>
      </c:catAx>
      <c:valAx>
        <c:axId val="44778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3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971-4E4C-4D05-8556-F59A95B0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DAE-07CE-4E66-BB20-BA52CB7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29E-2C3A-4115-A23C-4CFB08F6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71F-FA99-4F3C-A0B3-A5D9E2CC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95E-E49A-447C-B21F-9A584BCF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064-26B8-4270-950F-E729A532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984-6A20-4818-A2D0-DAC07749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CA7-C16F-4EE3-BFB4-D51D21C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4DC-4D65-436F-868C-165AE97C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17A-D23C-40B4-8E9B-445EA3E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C50-209E-4413-8688-EAB84C86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724-1435-4562-950E-67D5630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58C6D-4108-402D-90BE-5ACDF5A1B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