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95274"/>
        <c:axId val="97439366"/>
      </c:barChart>
      <c:catAx>
        <c:axId val="46695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39366"/>
        <c:crosses val="autoZero"/>
        <c:auto val="1"/>
        <c:lblAlgn val="ctr"/>
        <c:lblOffset val="100"/>
        <c:noMultiLvlLbl val="0"/>
      </c:catAx>
      <c:valAx>
        <c:axId val="97439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95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974-D044-4FAC-BC85-12A5848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813-D2E8-46BC-887F-3E4EA27C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769-54DF-4C6B-8525-BEEF52BE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AC1-1267-4762-B1A3-5261997E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2E7-FA70-4369-B78E-8A03949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BCB-7E27-49EC-9F1B-34A60C5A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611-6233-46F3-989E-09D4205B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5B2-A754-411F-A338-FAA1CF45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B50-8EDF-462C-B18C-A1C4092C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107-F1E6-40DE-BDB3-CCC0D58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DBD-9BDC-4E59-8CE8-F2FB9A0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A58-A625-4A87-B890-D08F054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7130C-1C3B-40AB-89F7-702DE1881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