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15509"/>
        <c:axId val="47327946"/>
      </c:barChart>
      <c:catAx>
        <c:axId val="63015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27946"/>
        <c:crosses val="autoZero"/>
        <c:auto val="1"/>
        <c:lblAlgn val="ctr"/>
        <c:lblOffset val="100"/>
        <c:noMultiLvlLbl val="0"/>
      </c:catAx>
      <c:valAx>
        <c:axId val="4732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15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5AB-59A1-45E8-B85F-3F1BAC6C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11B-CDCD-4FDD-A7D4-F4AF4FA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1BF-CDF6-450F-A3CC-A3303B69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EE4-97CF-4842-945C-857D0B4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CF5-B0E1-4147-942A-95AE36F0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B31-BECC-490E-9767-1009119E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296-C261-465B-9682-F1E763FF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5A3-4D19-4F32-8CF7-E84179E3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322-BA10-48EC-A487-6B50991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D51-1D92-488F-A4C0-BB14E2AE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D5B-AB61-4F76-82DD-DAFA6C4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CB3-2CA2-4851-9400-426A9E4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80ABE-4926-40A4-9820-95D790B4F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