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39034"/>
        <c:axId val="49472343"/>
      </c:barChart>
      <c:catAx>
        <c:axId val="28639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2343"/>
        <c:crosses val="autoZero"/>
        <c:auto val="1"/>
        <c:lblAlgn val="ctr"/>
        <c:lblOffset val="100"/>
        <c:noMultiLvlLbl val="0"/>
      </c:catAx>
      <c:valAx>
        <c:axId val="49472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39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E59-BD79-4D6B-80A0-7D5590F9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C85-53EB-4399-B99F-56932D3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928-FF2C-46D2-B413-E40007EE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03C-4FAB-4F8A-BD81-613877D5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B83-16AF-4E02-BA5B-D3F298C4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822-6BB8-4B82-9AD1-2A49A304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822-DE46-4723-9428-D863976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82F-08CB-480D-B6F3-32168721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5C7-D767-49A8-A2F1-676FDD6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358-7AA8-4D4A-8B6B-5A1072F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4A7-FC95-4F8B-B4C6-FFF2F73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9C6-D1CF-4C11-84D7-2BD1994C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37F25-F7F6-4AF6-8865-7CEF75357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